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gif" ContentType="image/gif"/>
  <Override PartName="/ppt/media/image9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0.wmf" ContentType="image/x-wmf"/>
  <Override PartName="/ppt/media/image1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dt" idx="10"/>
          </p:nvPr>
        </p:nvSpPr>
        <p:spPr>
          <a:xfrm>
            <a:off x="3884400" y="-36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sldImg"/>
          </p:nvPr>
        </p:nvSpPr>
        <p:spPr>
          <a:xfrm>
            <a:off x="1160280" y="682200"/>
            <a:ext cx="4538520" cy="34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body"/>
          </p:nvPr>
        </p:nvSpPr>
        <p:spPr>
          <a:xfrm>
            <a:off x="685800" y="431316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ftr" idx="11"/>
          </p:nvPr>
        </p:nvSpPr>
        <p:spPr>
          <a:xfrm>
            <a:off x="-360" y="862596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2596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4C4C7-BEC6-46D5-995A-0F373D018DF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60640" y="682560"/>
            <a:ext cx="4538520" cy="34038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1316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Old Log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ew Log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60640" y="682560"/>
            <a:ext cx="4538520" cy="34038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1316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acons – page 18 – 19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60640" y="682560"/>
            <a:ext cx="4538520" cy="34038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1316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verything you want to know 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n the 10-10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60640" y="682560"/>
            <a:ext cx="4538520" cy="34038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1316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uess Wh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60640" y="682560"/>
            <a:ext cx="4538520" cy="34038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1316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y………. Use it or los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en………Established in March 196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ere………Meet everyday, except Sunday, on 10-meters at 10:00 am lo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a, </a:t>
            </a:r>
            <a:r>
              <a:rPr b="0" i="1" lang="en-US" sz="2000" spc="-1" strike="noStrike">
                <a:solidFill>
                  <a:srgbClr val="0000ff"/>
                </a:solidFill>
                <a:latin typeface="PosterBodoni It BT"/>
              </a:rPr>
              <a:t>“ See you at 10 on 10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 began the </a:t>
            </a:r>
            <a:r>
              <a:rPr b="1" i="1" lang="en-US" sz="2000" spc="-1" strike="noStrike">
                <a:solidFill>
                  <a:srgbClr val="0000ff"/>
                </a:solidFill>
                <a:latin typeface="PosterBodoni It BT"/>
              </a:rPr>
              <a:t>10-10 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60640" y="682560"/>
            <a:ext cx="4538520" cy="34038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1316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ll voluntee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tracts…………. for Data Management and Treasurer/CPA/Tax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60640" y="682560"/>
            <a:ext cx="4538520" cy="34038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1316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April 1968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Name Changed t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10-10 International Net of Southern California, Inc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corporated in March 196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all 1976, Name changed to dro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uthern California’ and bec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000" spc="-1" strike="noStrike" u="sng">
                <a:solidFill>
                  <a:srgbClr val="0000ff"/>
                </a:solidFill>
                <a:uFillTx/>
                <a:latin typeface="Times New Roman"/>
              </a:rPr>
              <a:t>“</a:t>
            </a:r>
            <a:r>
              <a:rPr b="1" i="1" lang="en-US" sz="2000" spc="-1" strike="noStrike" u="sng">
                <a:solidFill>
                  <a:srgbClr val="0000ff"/>
                </a:solidFill>
                <a:uFillTx/>
                <a:latin typeface="Times New Roman"/>
              </a:rPr>
              <a:t>10-10 International Net, Inc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60640" y="682560"/>
            <a:ext cx="4538520" cy="34038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1219320" y="4921200"/>
            <a:ext cx="441936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pprox 8,000 PAID memb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60640" y="682560"/>
            <a:ext cx="4538520" cy="34038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1316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mbership in a unique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10-10 International News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32 page Magazine published quarter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wards - 15 Different Awa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tests - 5 per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 Phone  (SS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 C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 Mobi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60640" y="682560"/>
            <a:ext cx="4538520" cy="34038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1316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Britannic Bold"/>
              </a:rPr>
              <a:t>AWARDS</a:t>
            </a:r>
            <a:br>
              <a:rPr sz="2000"/>
            </a:br>
            <a:r>
              <a:rPr b="1" i="1" lang="en-US" sz="2000" spc="-1" strike="noStrike">
                <a:solidFill>
                  <a:srgbClr val="ff0000"/>
                </a:solidFill>
                <a:latin typeface="Britannic Bold"/>
              </a:rPr>
              <a:t>  Here are some of our awa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60640" y="682560"/>
            <a:ext cx="4538520" cy="34038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1316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10-10 countries as of today …31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5MT has 285 confirm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untries remaining to be worked…2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untries with no resident 10-10- members now or ever … 1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st of these are Islands or small countries with low or no ham popul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60640" y="682560"/>
            <a:ext cx="4538520" cy="34038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1316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re are approximately 2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-10 Chapters world wid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hapters hold a weekly net mee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d issue certificates and awar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y 10-10 member can form a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hapter from a local 10-10 group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ach Chapter is approved b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-10 and operates under th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pervision of the Chapter Coordina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llecting Chapter Certificates and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ints is called </a:t>
            </a:r>
            <a:r>
              <a:rPr b="1" lang="en-US" sz="1800" spc="-1" strike="noStrike">
                <a:solidFill>
                  <a:srgbClr val="3333ff"/>
                </a:solidFill>
                <a:latin typeface="Times New Roman"/>
              </a:rPr>
              <a:t>“PAPERCHASING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1461-8110-4BEE-BBF6-6B2568DC5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8580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64BC-4CFA-42C4-A55B-2D9B95750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68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D2FF-3689-44DA-88D6-BC74C965E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31380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94144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68580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31380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594144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46F4-4B4E-44A9-8EFB-3287FB326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59751-FDE8-4FC1-B54C-EF30C81C7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29493-E7A3-47B9-952C-25E2BC0D7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574AC-873F-4B25-87D0-81B3BEF75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FF5A6-338A-494C-ACBB-F95100353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36B9A-88C9-487A-A59F-941DE041A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609480" y="144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CDEC5-DCAA-417D-AC2C-3F86B754C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85A68-7C60-4E9E-9CE4-2EB0178B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86F4-0D3C-4AF4-805B-356F327C8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45848-6D44-4D5B-887E-E1A9473FD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3ABB8-8574-4E62-9702-F4F545528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B6432-BB0F-4B16-9BBA-D01C9AE88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320A8-1909-44CC-AB69-A2277251C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E748B-47EA-440C-97B9-402AFED3E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A18BF-5D95-43DC-A636-A484F33A2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85C74-B0D1-4FE8-8DFE-1157EE3C9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546B3-6CDC-4191-AE0E-DB9B8C557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8740D-2034-4FDE-98BA-673AEBCC6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9A21A-44FB-4560-8787-53F870E5A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16A6-70CC-4F41-B6D6-79211B9A1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609480" y="144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92330-99CD-41DC-97AE-49E5B8662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8580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135F3-6663-44E9-B9CB-13225644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68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9DF33-86A1-4DD3-A9E3-157C5D2D3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8580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2977E-051D-4E76-B63D-49830E3C1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8580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D145E-A6CF-456A-A4F9-831E9C916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8580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68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04052-B58A-4F54-A36D-E00FE171D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31380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94144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8580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31380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94144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8800A-EA24-4223-94C1-BF652B8FF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89EF-25BF-43B1-8272-3E40D0CE1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3A4A-3F69-47C6-A1A1-BFEC224FD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609480" y="144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B7C2-FF30-433C-B4A3-51BF71117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580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5381-1D16-4226-999B-BB89A530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68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4659-A6E6-4021-A3C1-A5F03323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8580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9087-7EDC-4735-AA7F-D1230015F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62BE2-B657-40AE-AC47-93CDB85983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304920" y="228600"/>
            <a:ext cx="8488080" cy="918720"/>
            <a:chOff x="304920" y="228600"/>
            <a:chExt cx="8488080" cy="918720"/>
          </a:xfrm>
        </p:grpSpPr>
        <p:grpSp>
          <p:nvGrpSpPr>
            <p:cNvPr id="6" name=""/>
            <p:cNvGrpSpPr/>
            <p:nvPr/>
          </p:nvGrpSpPr>
          <p:grpSpPr>
            <a:xfrm>
              <a:off x="1096920" y="314280"/>
              <a:ext cx="7696080" cy="757440"/>
              <a:chOff x="1096920" y="314280"/>
              <a:chExt cx="7696080" cy="757440"/>
            </a:xfrm>
          </p:grpSpPr>
          <p:sp>
            <p:nvSpPr>
              <p:cNvPr id="7" name=""/>
              <p:cNvSpPr/>
              <p:nvPr/>
            </p:nvSpPr>
            <p:spPr>
              <a:xfrm>
                <a:off x="1096920" y="314280"/>
                <a:ext cx="7696080" cy="75744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1940040" y="314280"/>
                <a:ext cx="6075360" cy="751320"/>
                <a:chOff x="1940040" y="314280"/>
                <a:chExt cx="6075360" cy="75132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1940040" y="316080"/>
                  <a:ext cx="3505320" cy="747720"/>
                  <a:chOff x="1940040" y="316080"/>
                  <a:chExt cx="3505320" cy="74772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3902400" y="1002240"/>
                    <a:ext cx="1116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4021200" y="1049760"/>
                    <a:ext cx="1440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684960" y="972720"/>
                    <a:ext cx="2052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320" bIns="-22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441960" y="995760"/>
                    <a:ext cx="17280" cy="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160" bIns="-38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368880" y="1005840"/>
                    <a:ext cx="4464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322800" y="1004400"/>
                    <a:ext cx="46080" cy="2772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073680" y="851760"/>
                    <a:ext cx="239760" cy="16272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219840" y="841320"/>
                    <a:ext cx="106200" cy="11916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322800" y="895680"/>
                    <a:ext cx="7452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760" bIns="-23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319560" y="923760"/>
                    <a:ext cx="50760" cy="5940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600" bIns="12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405600" y="890280"/>
                    <a:ext cx="2520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411720" y="944640"/>
                    <a:ext cx="316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45200" y="918720"/>
                    <a:ext cx="4104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456360" y="932400"/>
                    <a:ext cx="193680" cy="10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624480" y="942840"/>
                    <a:ext cx="52560" cy="4536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40" bIns="-1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735720" y="846720"/>
                    <a:ext cx="1260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720" bIns="-36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802320" y="916560"/>
                    <a:ext cx="1728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588120" y="758880"/>
                    <a:ext cx="12600" cy="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160" bIns="-38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475440" y="832680"/>
                    <a:ext cx="12600" cy="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160" bIns="-38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351600" y="809640"/>
                    <a:ext cx="54000" cy="4716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333960" y="709920"/>
                    <a:ext cx="63360" cy="10152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349800" y="783360"/>
                    <a:ext cx="2232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3305520" y="790560"/>
                    <a:ext cx="2988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970520" y="750240"/>
                    <a:ext cx="474840" cy="31356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341960" y="317520"/>
                    <a:ext cx="666720" cy="4957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137120" y="673200"/>
                    <a:ext cx="2412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118040" y="662760"/>
                    <a:ext cx="2556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888080" y="604800"/>
                    <a:ext cx="115920" cy="57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1160" bIns="11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5010480" y="651960"/>
                    <a:ext cx="93600" cy="2628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961160" y="666360"/>
                    <a:ext cx="3816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4935600" y="590760"/>
                    <a:ext cx="2556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5137560" y="685440"/>
                    <a:ext cx="29880" cy="471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599360" y="326160"/>
                    <a:ext cx="325440" cy="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840" bIns="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4311720" y="324720"/>
                    <a:ext cx="30168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3646800" y="375480"/>
                    <a:ext cx="284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2868840" y="324720"/>
                    <a:ext cx="692280" cy="2660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62560" y="316080"/>
                    <a:ext cx="31680" cy="9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543480" y="396720"/>
                    <a:ext cx="93600" cy="5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600" bIns="12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43400" y="452520"/>
                    <a:ext cx="127080" cy="125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3527640" y="489240"/>
                    <a:ext cx="972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816280" y="574920"/>
                    <a:ext cx="551160" cy="33120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2913120" y="802800"/>
                    <a:ext cx="3024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335400" y="631080"/>
                    <a:ext cx="2880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3416400" y="610200"/>
                    <a:ext cx="144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1940040" y="443880"/>
                    <a:ext cx="687600" cy="619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206800" y="676440"/>
                    <a:ext cx="258840" cy="38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62560" y="963720"/>
                    <a:ext cx="1116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2648160" y="764280"/>
                    <a:ext cx="1440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2021040" y="518760"/>
                    <a:ext cx="396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500560" y="357840"/>
                    <a:ext cx="468360" cy="40788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181600" y="326160"/>
                    <a:ext cx="938160" cy="16632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72040" y="387720"/>
                    <a:ext cx="2052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348280" y="412200"/>
                    <a:ext cx="2988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46560" y="483840"/>
                    <a:ext cx="50760" cy="104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360" bIns="-36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534040" y="482400"/>
                    <a:ext cx="28440" cy="2592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880" bIns="-20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2300400" y="410400"/>
                    <a:ext cx="2232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6207480" y="314280"/>
                  <a:ext cx="1807920" cy="751320"/>
                  <a:chOff x="6207480" y="314280"/>
                  <a:chExt cx="1807920" cy="75132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952040" y="972720"/>
                    <a:ext cx="2052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320" bIns="-22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709040" y="995760"/>
                    <a:ext cx="17640" cy="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160" bIns="-38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635960" y="1006200"/>
                    <a:ext cx="4464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590240" y="1004400"/>
                    <a:ext cx="45720" cy="2772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340760" y="852120"/>
                    <a:ext cx="239760" cy="16272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486920" y="841680"/>
                    <a:ext cx="106200" cy="11916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90240" y="895680"/>
                    <a:ext cx="7452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760" bIns="-23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587000" y="923760"/>
                    <a:ext cx="50760" cy="5940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600" bIns="12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72680" y="890640"/>
                    <a:ext cx="2520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78800" y="945000"/>
                    <a:ext cx="320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712280" y="918720"/>
                    <a:ext cx="4140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723440" y="932760"/>
                    <a:ext cx="193680" cy="10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891560" y="942840"/>
                    <a:ext cx="52560" cy="4536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40" bIns="-1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8002800" y="846720"/>
                    <a:ext cx="1260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720" bIns="-36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55200" y="758880"/>
                    <a:ext cx="12600" cy="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160" bIns="-38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742520" y="833040"/>
                    <a:ext cx="12600" cy="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160" bIns="-38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618680" y="810000"/>
                    <a:ext cx="54000" cy="4716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601040" y="710280"/>
                    <a:ext cx="63720" cy="10152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616880" y="783720"/>
                    <a:ext cx="2232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572600" y="790920"/>
                    <a:ext cx="3024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913880" y="375840"/>
                    <a:ext cx="284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134480" y="324720"/>
                    <a:ext cx="695160" cy="2660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829640" y="314280"/>
                    <a:ext cx="320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810560" y="396720"/>
                    <a:ext cx="93960" cy="5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600" bIns="12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710840" y="452880"/>
                    <a:ext cx="126720" cy="125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794720" y="489240"/>
                    <a:ext cx="972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083720" y="575280"/>
                    <a:ext cx="550800" cy="33120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180560" y="803160"/>
                    <a:ext cx="3024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602840" y="631080"/>
                    <a:ext cx="2844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7683840" y="610560"/>
                    <a:ext cx="140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207480" y="445680"/>
                    <a:ext cx="687240" cy="619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473880" y="678960"/>
                    <a:ext cx="258840" cy="386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929640" y="964080"/>
                    <a:ext cx="1116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915240" y="764640"/>
                    <a:ext cx="1440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288480" y="519120"/>
                    <a:ext cx="396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767640" y="358200"/>
                    <a:ext cx="468360" cy="40788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448680" y="326520"/>
                    <a:ext cx="938160" cy="16632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639120" y="388080"/>
                    <a:ext cx="2052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615360" y="412200"/>
                    <a:ext cx="302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713640" y="484200"/>
                    <a:ext cx="50760" cy="104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360" bIns="-36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801120" y="482400"/>
                    <a:ext cx="28440" cy="2592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880" bIns="-20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567840" y="410760"/>
                    <a:ext cx="219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09" name=""/>
              <p:cNvGrpSpPr/>
              <p:nvPr/>
            </p:nvGrpSpPr>
            <p:grpSpPr>
              <a:xfrm>
                <a:off x="1309680" y="326160"/>
                <a:ext cx="7464240" cy="732960"/>
                <a:chOff x="1309680" y="326160"/>
                <a:chExt cx="7464240" cy="73296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309680" y="71352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671480" y="326160"/>
                  <a:ext cx="0" cy="73296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033640" y="326160"/>
                  <a:ext cx="0" cy="73296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395440" y="326160"/>
                  <a:ext cx="0" cy="73296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757600" y="326160"/>
                  <a:ext cx="0" cy="73296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119400" y="326160"/>
                  <a:ext cx="0" cy="73296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481200" y="326160"/>
                  <a:ext cx="0" cy="73296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843360" y="326160"/>
                  <a:ext cx="0" cy="73296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205160" y="326160"/>
                  <a:ext cx="0" cy="73296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567320" y="326160"/>
                  <a:ext cx="0" cy="73296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929120" y="326160"/>
                  <a:ext cx="0" cy="73296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291280" y="326160"/>
                  <a:ext cx="0" cy="73296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653080" y="326160"/>
                  <a:ext cx="0" cy="73296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6014880" y="326160"/>
                  <a:ext cx="0" cy="73296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377040" y="326160"/>
                  <a:ext cx="0" cy="73296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738840" y="326160"/>
                  <a:ext cx="0" cy="73296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101000" y="326160"/>
                  <a:ext cx="0" cy="73296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462800" y="326160"/>
                  <a:ext cx="0" cy="73296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824600" y="326160"/>
                  <a:ext cx="0" cy="73296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186760" y="326160"/>
                  <a:ext cx="0" cy="73296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548560" y="326160"/>
                  <a:ext cx="0" cy="73296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960560" y="322560"/>
                <a:ext cx="5864040" cy="741600"/>
                <a:chOff x="1960560" y="322560"/>
                <a:chExt cx="5864040" cy="74160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566960" y="324720"/>
                  <a:ext cx="0" cy="2487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760640" y="71388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929120" y="745200"/>
                  <a:ext cx="0" cy="48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290920" y="920520"/>
                  <a:ext cx="0" cy="13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377040" y="520920"/>
                  <a:ext cx="0" cy="31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227640" y="71388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738840" y="545400"/>
                  <a:ext cx="0" cy="51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6742080" y="328320"/>
                  <a:ext cx="0" cy="87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7100640" y="324360"/>
                  <a:ext cx="0" cy="318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338960" y="71388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7129080" y="71388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7462800" y="32436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824600" y="955440"/>
                  <a:ext cx="0" cy="59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481200" y="331560"/>
                  <a:ext cx="0" cy="108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119400" y="326160"/>
                  <a:ext cx="0" cy="590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3078000" y="71388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865240" y="71388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2547720" y="71388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960560" y="71388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392200" y="542160"/>
                  <a:ext cx="0" cy="522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2033640" y="573480"/>
                  <a:ext cx="0" cy="273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2395440" y="322560"/>
                  <a:ext cx="0" cy="47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757240" y="447120"/>
                  <a:ext cx="0" cy="168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2757240" y="325800"/>
                  <a:ext cx="0" cy="385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819840" y="71172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pic>
          <p:nvPicPr>
            <p:cNvPr id="157" name="" descr=""/>
            <p:cNvPicPr/>
            <p:nvPr/>
          </p:nvPicPr>
          <p:blipFill>
            <a:blip r:embed="rId4"/>
            <a:stretch/>
          </p:blipFill>
          <p:spPr>
            <a:xfrm>
              <a:off x="304920" y="228600"/>
              <a:ext cx="892080" cy="918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8" name=""/>
          <p:cNvSpPr/>
          <p:nvPr/>
        </p:nvSpPr>
        <p:spPr>
          <a:xfrm>
            <a:off x="2362320" y="152280"/>
            <a:ext cx="5943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99"/>
                </a:solidFill>
                <a:latin typeface="Playbill"/>
              </a:rPr>
              <a:t>10-10 International Net, Inc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6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8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99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68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pic>
          <p:nvPicPr>
            <p:cNvPr id="284" name="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22A3F-9B7A-4086-9155-B79DF99185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364CD-9400-4AB6-8EC8-28E1901E31A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5105520" y="3127320"/>
            <a:ext cx="3047760" cy="303372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838080" y="3200400"/>
            <a:ext cx="342900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Make Conta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 into Daily Nets – 1800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 into Chapter 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cipate in QSO Parties (10-10 Sprint on Octobe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tch Listserv for Band Opening Announc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Ideas to Keep the Band Ho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Q – You Never Know Who’s Liste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en to Bea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Mob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SK31 or C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a Local 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WS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can assign QSO Party scores to chapters within 150 mi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0 QSO Bureau is Permanent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Software programs will now be “reviewed” in the New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6OI Special Event a Permanent 10-10 activity!  -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ovember 26 &amp; 27, 20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Scholarship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33520" y="41148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Comic Sans MS"/>
              </a:rPr>
              <a:t>100% of all donations go to the Scholarship F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Comic Sans MS"/>
              </a:rPr>
              <a:t>Donations are Tax Deduc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Comic Sans MS"/>
              </a:rPr>
              <a:t>Last 12 years: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$47,0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352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ritannic Bold"/>
              </a:rPr>
              <a:t>10-10 Web Pag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4266720"/>
            <a:ext cx="49528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www.ten-ten.org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o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www.10-10.org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6400800" y="3809880"/>
            <a:ext cx="179532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1219320" y="3504960"/>
            <a:ext cx="6400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NEW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KEN HE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$15.00 per YE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 YEARS for $40.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880" y="2590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ritannic Bold"/>
              </a:rPr>
              <a:t>THE ORIGIN OF 10-10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066680" y="3580920"/>
            <a:ext cx="563904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impson"/>
              </a:rPr>
              <a:t>Why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impson"/>
              </a:rPr>
              <a:t>When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impson"/>
              </a:rPr>
              <a:t>Wher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a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ff"/>
                </a:solidFill>
                <a:latin typeface="PosterBodoni It BT"/>
              </a:rPr>
              <a:t>“ See you at 10 on 10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began th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ff"/>
                </a:solidFill>
                <a:latin typeface="PosterBodoni It BT"/>
              </a:rPr>
              <a:t>10-10 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6934320" y="2209680"/>
            <a:ext cx="19047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837720" y="2895120"/>
            <a:ext cx="5257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Comic Sans MS"/>
              </a:rPr>
              <a:t>A </a:t>
            </a:r>
            <a:r>
              <a:rPr b="1" lang="en-US" sz="4000" spc="-1" strike="noStrike" u="sng">
                <a:solidFill>
                  <a:srgbClr val="009900"/>
                </a:solidFill>
                <a:uFillTx/>
                <a:latin typeface="Comic Sans MS"/>
              </a:rPr>
              <a:t>volunteer-led</a:t>
            </a:r>
            <a:r>
              <a:rPr b="1" lang="en-US" sz="4000" spc="-1" strike="noStrike">
                <a:solidFill>
                  <a:srgbClr val="009900"/>
                </a:solidFill>
                <a:latin typeface="Comic Sans MS"/>
              </a:rPr>
              <a:t> organizatio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Comic Sans MS"/>
              </a:rPr>
              <a:t>Contract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5410080" y="3657600"/>
            <a:ext cx="308304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1219320" y="3124080"/>
            <a:ext cx="63244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riginal Name - 196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Ten-Ten Net of Southern Californi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hanged Name to - 196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10-10 International Net of Southern Californ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Incorporated in 196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ame changed AGAIN! - 197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 u="sng">
                <a:solidFill>
                  <a:srgbClr val="0000ff"/>
                </a:solidFill>
                <a:uFillTx/>
                <a:latin typeface="Times New Roman"/>
              </a:rPr>
              <a:t>“</a:t>
            </a:r>
            <a:r>
              <a:rPr b="1" i="1" lang="en-US" sz="2000" spc="-1" strike="noStrike" u="sng">
                <a:solidFill>
                  <a:srgbClr val="0000ff"/>
                </a:solidFill>
                <a:uFillTx/>
                <a:latin typeface="Times New Roman"/>
              </a:rPr>
              <a:t>10-10 International Net, Inc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 flipH="1">
            <a:off x="6324480" y="3200400"/>
            <a:ext cx="184320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3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533520" y="3048120"/>
            <a:ext cx="80769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972 - 5,000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1600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974 - we doubled to 10,000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1600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978 - up to 18,000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1600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979 - 23,500 had joined 10-1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1600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989 - In August we hit #50,0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1600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999 - 70,800 in Augu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1600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0 - October at 720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1600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005 – May at 74350 +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3160" y="297144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Britannic Bold"/>
              </a:rPr>
              <a:t>What Does 10-10 Offer You?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3809520"/>
            <a:ext cx="81532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01480" indent="-501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embership in a unique organ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01480" indent="-501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10-10 International News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01480" indent="-501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ward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01480" indent="-501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nte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01480" indent="-501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ree QSL Burea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7086600" y="4495680"/>
            <a:ext cx="157320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838080" y="2971800"/>
            <a:ext cx="33530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R A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66"/>
                </a:solidFill>
                <a:latin typeface="Times New Roman"/>
              </a:rPr>
              <a:t>International 500 of the World A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VP Award</a:t>
            </a: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Times New Roman"/>
              </a:rPr>
              <a:t>VP Worked All States Awar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inents Award</a:t>
            </a:r>
            <a:r>
              <a:rPr b="1" lang="en-US" sz="2400" spc="-1" strike="noStrike">
                <a:solidFill>
                  <a:srgbClr val="cc99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Counties A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untries A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876920" y="2971440"/>
            <a:ext cx="3581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W A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Times New Roman"/>
              </a:rPr>
              <a:t>Mobile A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OM/XYL A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99cc00"/>
                </a:solidFill>
                <a:latin typeface="Times New Roman"/>
              </a:rPr>
              <a:t>Worked all States A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PX (Prefix) A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ked all Grea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itain Counties A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Britannic Bold"/>
              </a:rPr>
              <a:t>DX Statistics</a:t>
            </a:r>
            <a:endParaRPr b="0" i="1" lang="en-US" sz="6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3885840"/>
            <a:ext cx="6324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Times New Roman"/>
              </a:rPr>
              <a:t>Countries Worke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Times New Roman"/>
              </a:rPr>
              <a:t>Countries To Be Worke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</a:rPr>
              <a:t>Countries with no Resident</a:t>
            </a:r>
            <a:br>
              <a:rPr sz="4000"/>
            </a:br>
            <a:r>
              <a:rPr b="1" lang="en-US" sz="4000" spc="-1" strike="noStrike">
                <a:solidFill>
                  <a:srgbClr val="ff3399"/>
                </a:solidFill>
                <a:latin typeface="Times New Roman"/>
              </a:rPr>
              <a:t> 10-10 members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6858000" y="4419720"/>
            <a:ext cx="190332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ritannic Bold"/>
              </a:rPr>
              <a:t>10-10 CHAPTER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066320" y="3885840"/>
            <a:ext cx="71629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World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Weekly Net Meet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      </a:t>
            </a: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Forming a Chap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         </a:t>
            </a: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Chapters are approv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            </a:t>
            </a:r>
            <a:r>
              <a:rPr b="1" lang="en-US" sz="2800" spc="-1" strike="noStrike">
                <a:solidFill>
                  <a:srgbClr val="3333ff"/>
                </a:solidFill>
                <a:latin typeface="Comic Sans MS"/>
              </a:rPr>
              <a:t>“</a:t>
            </a:r>
            <a:r>
              <a:rPr b="1" lang="en-US" sz="2800" spc="-1" strike="noStrike">
                <a:solidFill>
                  <a:srgbClr val="3333ff"/>
                </a:solidFill>
                <a:latin typeface="Comic Sans MS"/>
              </a:rPr>
              <a:t>PAPERCHASING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3T18:10:09Z</dcterms:created>
  <dc:creator>Joe</dc:creator>
  <dc:description/>
  <dc:language>en-US</dc:language>
  <cp:lastModifiedBy>Keith Schlottman</cp:lastModifiedBy>
  <dcterms:modified xsi:type="dcterms:W3CDTF">2005-09-10T17:19:06Z</dcterms:modified>
  <cp:revision>73</cp:revision>
  <dc:subject/>
  <dc:title>INTRODUCTION TO 10 METERS</dc:title>
</cp:coreProperties>
</file>