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jpeg" ContentType="image/jpeg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jpeg" ContentType="image/jpeg"/>
  <Override PartName="/ppt/media/image5.wmf" ContentType="image/x-wmf"/>
  <Override PartName="/ppt/media/image4.jpeg" ContentType="image/jpeg"/>
  <Override PartName="/ppt/media/image2.png" ContentType="image/png"/>
  <Override PartName="/ppt/media/image10.wmf" ContentType="image/x-wmf"/>
  <Override PartName="/ppt/media/image6.gif" ContentType="image/gif"/>
  <Override PartName="/ppt/media/image1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60280" y="682200"/>
            <a:ext cx="4538520" cy="34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11"/>
          </p:nvPr>
        </p:nvSpPr>
        <p:spPr>
          <a:xfrm>
            <a:off x="-360" y="86259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59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A7CE-1BFA-4B41-8D3E-CF37D768C7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bership in a unique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0-10 International New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32 page Magazine published quarter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wards - 15 Different Aw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ests - 5 per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Phone  (SS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C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Mo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ritannic Bold"/>
              </a:rPr>
              <a:t>AWARDS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Britannic Bold"/>
              </a:rPr>
              <a:t>  Here are some of our aw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10-10 countries as of today …3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ries remaining to be worked…2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ries with no resident 10-10- members now or ever … 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st of these are Islands or small countries with low or no ham popu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19320" y="4313160"/>
            <a:ext cx="495288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5MT has 285 confirme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88 wor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W6O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0-10 #1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ailable to all members to us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special events, field day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y special purpos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re are approximately 2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-10 Chapters world w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pters hold a weekly net mee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issue certificates and awa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y 10-10 member can form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pter from a local 10-10 group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ach Chapter is approved b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-10 and operates under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ervision of the Chapter Coordin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llecting Chapter Certificates an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ints is called 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“PAPERCHASING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-10 currently sponsor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$1000.0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olarships each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ded by donation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embershi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ministered 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oundation fo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ateur Radi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erything you want to know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 the 10-10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’s simple - just contact 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-1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on 10-meters of cours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 their 10-10 #, Call, Nam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 of Contact and Loc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9966"/>
                </a:solidFill>
                <a:latin typeface="Times New Roman"/>
              </a:rPr>
              <a:t>What is it?................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-for-profit organization of amateurs interested in 10-me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9966"/>
                </a:solidFill>
                <a:latin typeface="Times New Roman"/>
              </a:rPr>
              <a:t>Purpose:…………….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promote activity and good operating practice on 10-me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your application along wi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years du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$10.00 for one year or $25.00 for three years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our Omaha, NE Post Office B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 will receive your very own uni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-10 number, good fore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uess Wh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as usu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………. Use it or los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n………Established in March 196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………Meet everyday, except Sunday, on 10-meters at 10:00 am lo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a, </a:t>
            </a:r>
            <a:r>
              <a:rPr b="0" i="1" lang="en-US" sz="2000" spc="-1" strike="noStrike">
                <a:solidFill>
                  <a:srgbClr val="0000ff"/>
                </a:solidFill>
                <a:latin typeface="PosterBodoni It BT"/>
              </a:rPr>
              <a:t>“ See you at 10 on 1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 began the </a:t>
            </a:r>
            <a:r>
              <a:rPr b="1" i="1" lang="en-US" sz="2000" spc="-1" strike="noStrike">
                <a:solidFill>
                  <a:srgbClr val="0000ff"/>
                </a:solidFill>
                <a:latin typeface="PosterBodoni It BT"/>
              </a:rPr>
              <a:t>10-10 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l volunte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racts…………. for Data Management and Treasurer/CPA/Tax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pril 196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Name Changed 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10-10 International Net of Southern California, Inc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orporated in March 196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l 1976, Name changed to dr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uthern California’ and bec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10-10 International Net, Inc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ld Log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w Log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grew slowly at first, but look how we grew in numbers as the years pass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72 - 5,00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74 - we doubled to 10,00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78 - up to 18,00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79 - 23,500 had joined 10-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89 - In August we hit #50,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99 - 70,800 in Augu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00 - October at 72000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219320" y="4921200"/>
            <a:ext cx="441936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prox 8,000 PAID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-10 numbers are unique and a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sued only once and to you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 al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r 10-10 number, and call, is kept i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records of 10-10 even after you become a Silent Ke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052-40DD-4B5E-8F08-1F35A146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B0D-82D6-4144-9E21-6CFFCD68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736-2074-409E-8C24-13652BA4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3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44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94A-2BD5-4571-BE61-C920158E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C2E0-43B4-47B8-88A1-B56EBD3D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7D90-C9B1-4781-AB19-DDAB3BC1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5F48-4398-44B7-9033-A6F91A13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7AF3-48A6-4139-822D-160E42BE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BD22-0FC4-4580-9DF7-58A80D4F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7298-0B96-4933-BEB7-EADC8DCA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2229-0BA0-451D-B0F8-33E6CD07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2EE-1E8D-400A-A3A5-AC10181F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8EDF-1C5F-476E-9FF7-9D639575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540D-45F4-478F-949B-5C29C9BF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35B5-2BB0-4537-BB00-B89B2B09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A4EA-7E6A-4959-A638-39B814A2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28A6-17AF-4DBC-928F-DDA1A253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194AF-9835-48A5-8741-00F89618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3AF1D-7422-448D-9DEB-19FA19FC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8C885-2DB5-4141-AE1D-5AC57D0C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5B864-8583-4AD2-85D8-8B671D40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6DD33-151F-4EF9-B998-A0BDD84C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CD4D-C47A-4A39-84BD-DBC2E66C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4A1EA-B3AB-43B3-9D97-F4364D14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C7440-2761-4A47-B8A4-A5998721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A48FD-74FB-4C9A-9EFE-55FF3B30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F7C2F-B383-4F8E-82AA-2C62329B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3B84F-032D-4E73-93F5-69F349F4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272FD-8FAE-4A35-B456-DF893056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471B5-310C-4C3F-B330-52F48C16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911B-8DC0-4BD4-836E-B5A01804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2E1-3D8F-4EBE-9825-EAD4C752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B64-5F4C-4503-85CC-F5AB0E59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A75-7C77-456B-8923-07D76AA0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82A-CD3B-4589-B31C-D22C6943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72F-AD3B-4C1B-962A-7145ACBD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8F41-5282-4386-9903-411FF747C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228600"/>
            <a:ext cx="8488080" cy="918720"/>
            <a:chOff x="304920" y="228600"/>
            <a:chExt cx="8488080" cy="918720"/>
          </a:xfrm>
        </p:grpSpPr>
        <p:grpSp>
          <p:nvGrpSpPr>
            <p:cNvPr id="6" name=""/>
            <p:cNvGrpSpPr/>
            <p:nvPr/>
          </p:nvGrpSpPr>
          <p:grpSpPr>
            <a:xfrm>
              <a:off x="1096920" y="314280"/>
              <a:ext cx="7696080" cy="757440"/>
              <a:chOff x="1096920" y="314280"/>
              <a:chExt cx="7696080" cy="757440"/>
            </a:xfrm>
          </p:grpSpPr>
          <p:sp>
            <p:nvSpPr>
              <p:cNvPr id="7" name=""/>
              <p:cNvSpPr/>
              <p:nvPr/>
            </p:nvSpPr>
            <p:spPr>
              <a:xfrm>
                <a:off x="1096920" y="314280"/>
                <a:ext cx="7696080" cy="75744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940040" y="314280"/>
                <a:ext cx="6075360" cy="751320"/>
                <a:chOff x="1940040" y="314280"/>
                <a:chExt cx="6075360" cy="75132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940040" y="316080"/>
                  <a:ext cx="3505320" cy="747720"/>
                  <a:chOff x="1940040" y="316080"/>
                  <a:chExt cx="3505320" cy="74772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902400" y="100224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4021200" y="1049760"/>
                    <a:ext cx="144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84960" y="972720"/>
                    <a:ext cx="205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441960" y="995760"/>
                    <a:ext cx="172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68880" y="1005840"/>
                    <a:ext cx="44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322800" y="1004400"/>
                    <a:ext cx="4608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73680" y="851760"/>
                    <a:ext cx="23976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19840" y="841320"/>
                    <a:ext cx="10620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322800" y="895680"/>
                    <a:ext cx="745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19560" y="923760"/>
                    <a:ext cx="5076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405600" y="890280"/>
                    <a:ext cx="2520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11720" y="944640"/>
                    <a:ext cx="316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45200" y="918720"/>
                    <a:ext cx="410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56360" y="932400"/>
                    <a:ext cx="19368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24480" y="942840"/>
                    <a:ext cx="5256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35720" y="846720"/>
                    <a:ext cx="126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802320" y="916560"/>
                    <a:ext cx="172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88120" y="75888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75440" y="83268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51600" y="809640"/>
                    <a:ext cx="540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33960" y="709920"/>
                    <a:ext cx="633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49800" y="783360"/>
                    <a:ext cx="223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305520" y="790560"/>
                    <a:ext cx="298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70520" y="750240"/>
                    <a:ext cx="474840" cy="31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341960" y="317520"/>
                    <a:ext cx="666720" cy="4957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137120" y="673200"/>
                    <a:ext cx="2412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118040" y="662760"/>
                    <a:ext cx="255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88080" y="604800"/>
                    <a:ext cx="11592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5010480" y="651960"/>
                    <a:ext cx="9360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61160" y="666360"/>
                    <a:ext cx="381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935600" y="590760"/>
                    <a:ext cx="2556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137560" y="685440"/>
                    <a:ext cx="298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99360" y="326160"/>
                    <a:ext cx="32544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311720" y="324720"/>
                    <a:ext cx="3016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46800" y="375480"/>
                    <a:ext cx="284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68840" y="324720"/>
                    <a:ext cx="692280" cy="266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62560" y="316080"/>
                    <a:ext cx="3168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43480" y="396720"/>
                    <a:ext cx="9360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43400" y="452520"/>
                    <a:ext cx="1270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527640" y="489240"/>
                    <a:ext cx="972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16280" y="574920"/>
                    <a:ext cx="551160" cy="33120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913120" y="802800"/>
                    <a:ext cx="302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35400" y="631080"/>
                    <a:ext cx="288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416400" y="610200"/>
                    <a:ext cx="144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940040" y="443880"/>
                    <a:ext cx="687600" cy="619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206800" y="676440"/>
                    <a:ext cx="258840" cy="38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62560" y="963720"/>
                    <a:ext cx="111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48160" y="764280"/>
                    <a:ext cx="14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021040" y="518760"/>
                    <a:ext cx="396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500560" y="357840"/>
                    <a:ext cx="46836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81600" y="326160"/>
                    <a:ext cx="938160" cy="1663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72040" y="387720"/>
                    <a:ext cx="205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48280" y="412200"/>
                    <a:ext cx="298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46560" y="483840"/>
                    <a:ext cx="50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534040" y="482400"/>
                    <a:ext cx="2844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300400" y="410400"/>
                    <a:ext cx="223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207480" y="314280"/>
                  <a:ext cx="1807920" cy="751320"/>
                  <a:chOff x="6207480" y="314280"/>
                  <a:chExt cx="1807920" cy="75132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52040" y="972720"/>
                    <a:ext cx="205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709040" y="995760"/>
                    <a:ext cx="1764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635960" y="1006200"/>
                    <a:ext cx="44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90240" y="1004400"/>
                    <a:ext cx="457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340760" y="852120"/>
                    <a:ext cx="23976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86920" y="841680"/>
                    <a:ext cx="10620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90240" y="895680"/>
                    <a:ext cx="745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87000" y="923760"/>
                    <a:ext cx="5076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72680" y="890640"/>
                    <a:ext cx="2520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78800" y="945000"/>
                    <a:ext cx="320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712280" y="918720"/>
                    <a:ext cx="414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723440" y="932760"/>
                    <a:ext cx="19368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91560" y="942840"/>
                    <a:ext cx="5256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002800" y="846720"/>
                    <a:ext cx="126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55200" y="75888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742520" y="83304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618680" y="810000"/>
                    <a:ext cx="540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601040" y="710280"/>
                    <a:ext cx="6372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616880" y="783720"/>
                    <a:ext cx="223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72600" y="790920"/>
                    <a:ext cx="302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913880" y="375840"/>
                    <a:ext cx="284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134480" y="324720"/>
                    <a:ext cx="695160" cy="266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829640" y="314280"/>
                    <a:ext cx="320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810560" y="396720"/>
                    <a:ext cx="9396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10840" y="452880"/>
                    <a:ext cx="1267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94720" y="489240"/>
                    <a:ext cx="972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83720" y="575280"/>
                    <a:ext cx="550800" cy="33120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80560" y="803160"/>
                    <a:ext cx="302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02840" y="631080"/>
                    <a:ext cx="284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83840" y="610560"/>
                    <a:ext cx="140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207480" y="445680"/>
                    <a:ext cx="687240" cy="619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73880" y="678960"/>
                    <a:ext cx="258840" cy="38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929640" y="964080"/>
                    <a:ext cx="111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915240" y="764640"/>
                    <a:ext cx="14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88480" y="519120"/>
                    <a:ext cx="396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67640" y="358200"/>
                    <a:ext cx="46836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48680" y="326520"/>
                    <a:ext cx="938160" cy="1663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639120" y="388080"/>
                    <a:ext cx="205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15360" y="412200"/>
                    <a:ext cx="30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13640" y="484200"/>
                    <a:ext cx="50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801120" y="482400"/>
                    <a:ext cx="2844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67840" y="41076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309680" y="326160"/>
                <a:ext cx="7464240" cy="732960"/>
                <a:chOff x="1309680" y="326160"/>
                <a:chExt cx="7464240" cy="7329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309680" y="71352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7148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03364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9544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5760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11940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8120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4336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20516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6732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92912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9128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5308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01488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7704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73884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10100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6280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82460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8676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48560" y="326160"/>
                  <a:ext cx="0" cy="73296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60560" y="322560"/>
                <a:ext cx="5864040" cy="741600"/>
                <a:chOff x="1960560" y="322560"/>
                <a:chExt cx="5864040" cy="7416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66960" y="324720"/>
                  <a:ext cx="0" cy="248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60640" y="71388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929120" y="745200"/>
                  <a:ext cx="0" cy="48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90920" y="920520"/>
                  <a:ext cx="0" cy="13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77040" y="520920"/>
                  <a:ext cx="0" cy="31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227640" y="71388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738840" y="545400"/>
                  <a:ext cx="0" cy="51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742080" y="328320"/>
                  <a:ext cx="0" cy="87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100640" y="324360"/>
                  <a:ext cx="0" cy="318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338960" y="71388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129080" y="71388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62800" y="32436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824600" y="955440"/>
                  <a:ext cx="0" cy="59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81200" y="331560"/>
                  <a:ext cx="0" cy="108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119400" y="326160"/>
                  <a:ext cx="0" cy="590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78000" y="71388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65240" y="71388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47720" y="71388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60560" y="71388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92200" y="542160"/>
                  <a:ext cx="0" cy="522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033640" y="573480"/>
                  <a:ext cx="0" cy="273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95440" y="322560"/>
                  <a:ext cx="0" cy="47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57240" y="447120"/>
                  <a:ext cx="0" cy="168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57240" y="325800"/>
                  <a:ext cx="0" cy="385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819840" y="71172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304920" y="228600"/>
              <a:ext cx="892080" cy="91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2362320" y="15228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Playbill"/>
              </a:rPr>
              <a:t>10-10 International Net, Inc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6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69F6-BB7B-4F17-90B6-1D8EBA5BC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10B6-3C5C-4C40-814E-D7656E9D55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200400" y="3276720"/>
            <a:ext cx="28195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160" y="29714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itannic Bold"/>
              </a:rPr>
              <a:t>What Does 10-10 Offer You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mbership in a uniqu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10-10 International New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war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e QSL Bure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086600" y="4495680"/>
            <a:ext cx="15732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838080" y="2971800"/>
            <a:ext cx="33530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 A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International 500 of the World A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VP Award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VP Worked All States Awar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ents Award</a:t>
            </a:r>
            <a:r>
              <a:rPr b="1" lang="en-US" sz="2400" spc="-1" strike="noStrike">
                <a:solidFill>
                  <a:srgbClr val="cc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Counties A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untries A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876920" y="2971440"/>
            <a:ext cx="3581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W A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Mobile A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M/XYL A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Worked all States A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PX (Prefix) A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ed all Grea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tain Counties A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ritannic Bold"/>
              </a:rPr>
              <a:t>DX Statistics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388584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Countries Work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ountries To Be Work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Countries with no Resident</a:t>
            </a:r>
            <a:br>
              <a:rPr sz="4000"/>
            </a:b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 10-10 member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858000" y="4419720"/>
            <a:ext cx="19033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Britannic Bold"/>
              </a:rPr>
              <a:t>DX Statistics</a:t>
            </a:r>
            <a:endParaRPr b="0" i="1" lang="en-US" sz="5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10-10 Member with the mo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10-10 countr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5M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itannic Bold"/>
              </a:rPr>
              <a:t>10-10 CLUB S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42640" y="42667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6O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10-10 #109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5943600" y="4267080"/>
            <a:ext cx="156384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itannic Bold"/>
              </a:rPr>
              <a:t>10-10 CHAPTER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66320" y="3885840"/>
            <a:ext cx="7162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orld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eekly Net Meet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Forming a Chap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Chapters are approv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           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PAPERCHASING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itannic Bold"/>
              </a:rPr>
              <a:t>SCHOLARSHIP PROGRA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990720" y="4572000"/>
            <a:ext cx="1785960" cy="17254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2743200" y="44197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We are very proud of our Scholarship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Scholarship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4114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100% of all donations go to the Scholarship F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Donations are Tax Deduc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Last 12 years: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$47,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itannic Bold"/>
              </a:rPr>
              <a:t>10-10 Web Pag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4266720"/>
            <a:ext cx="4952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www.ten-ten.or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www.10-10.or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400800" y="380988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itannic Bold"/>
              </a:rPr>
              <a:t>HOW DO I JOIN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040" y="3581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impson"/>
              </a:rPr>
              <a:t>10-10 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impso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Simpson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impso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Simpso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impso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Simpson"/>
              </a:rPr>
              <a:t>Date of Cont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impso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Simpson"/>
              </a:rPr>
              <a:t>Q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5765760" y="3890880"/>
            <a:ext cx="15732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837720" y="30481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Comic Sans MS"/>
              </a:rPr>
              <a:t>What is it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 flipH="1">
            <a:off x="6934320" y="36576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981080" y="41148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66"/>
                </a:solidFill>
                <a:latin typeface="Comic Sans MS"/>
              </a:rPr>
              <a:t>Purpose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itannic Bold"/>
              </a:rPr>
              <a:t>SEND YOUR APPLIC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3962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15.00 for one y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$40.00 for three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will receive your very own u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-10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OOD FORE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 flipH="1">
            <a:off x="7010280" y="2514600"/>
            <a:ext cx="17258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1219320" y="35049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N 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$15.00 per Y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 YEARS for $40.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2133720" y="3047760"/>
            <a:ext cx="5410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YOUR 10-1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CHOLARSHI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FUN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DON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APPRECIAT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0" y="5334120"/>
            <a:ext cx="5562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une 8-11, 2005</a:t>
            </a:r>
            <a:br>
              <a:rPr sz="3200"/>
            </a:b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505320" y="3124080"/>
            <a:ext cx="259056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itannic Bold"/>
              </a:rPr>
              <a:t>THE ORIGIN OF 10-10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6680" y="3580920"/>
            <a:ext cx="5639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impson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impson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impson"/>
              </a:rPr>
              <a:t>Wher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a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PosterBodoni It BT"/>
              </a:rPr>
              <a:t>“ See you at 10 on 10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began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PosterBodoni It BT"/>
              </a:rPr>
              <a:t>10-10 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6934320" y="22096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837720" y="2895120"/>
            <a:ext cx="5257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An </a:t>
            </a:r>
            <a:r>
              <a:rPr b="1" lang="en-US" sz="4000" spc="-1" strike="noStrike" u="sng">
                <a:solidFill>
                  <a:srgbClr val="009900"/>
                </a:solidFill>
                <a:uFillTx/>
                <a:latin typeface="Comic Sans MS"/>
              </a:rPr>
              <a:t>all volunteer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 organiz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Contrac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410080" y="3657600"/>
            <a:ext cx="30830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219320" y="3124080"/>
            <a:ext cx="6324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rigninal Name - 196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Ten-Ten Net of Southern Californ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hanged Name to - 196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0-10 International Net of Southern Califor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ncorporated in 196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ame changed AGAIN! - 197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10-10 International Net, Inc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 flipH="1">
            <a:off x="6324480" y="3200400"/>
            <a:ext cx="18432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809880" y="4125960"/>
            <a:ext cx="2286000" cy="22748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30481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ritannic Bold"/>
              </a:rPr>
              <a:t>MEMBERSHIP</a:t>
            </a:r>
            <a:endParaRPr b="0" i="1" lang="en-US" sz="5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52120" y="4114440"/>
            <a:ext cx="5410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Baskerville Old Face"/>
              </a:rPr>
              <a:t>We grew slowly at first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Baskerville Old Face"/>
              </a:rPr>
              <a:t>but we grew in numb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Baskerville Old Face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Baskerville Old Face"/>
              </a:rPr>
              <a:t>as the years passed</a:t>
            </a:r>
            <a:r>
              <a:rPr b="1" lang="en-US" sz="3600" spc="-1" strike="noStrike">
                <a:solidFill>
                  <a:srgbClr val="003399"/>
                </a:solidFill>
                <a:latin typeface="Baskerville Old Fac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7162920" y="4267080"/>
            <a:ext cx="13176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72 - 5,000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74 - we doubled to 10,000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78 - up to 18,000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79 - 23,500 had joined 10-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89 - In August we hit #50,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99 - 70,800 in Aug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0 - October at 7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005 – May at 74350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itannic Bold"/>
              </a:rPr>
              <a:t>About Your 10-10 Number</a:t>
            </a: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809880" y="3962520"/>
            <a:ext cx="1490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18:10:09Z</dcterms:created>
  <dc:creator>Joe</dc:creator>
  <dc:description/>
  <dc:language>en-US</dc:language>
  <cp:lastModifiedBy>Keith Schlottman</cp:lastModifiedBy>
  <dcterms:modified xsi:type="dcterms:W3CDTF">2005-08-19T03:22:19Z</dcterms:modified>
  <cp:revision>64</cp:revision>
  <dc:subject/>
  <dc:title>INTRODUCTION TO 10 METERS</dc:title>
</cp:coreProperties>
</file>