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gif" ContentType="image/gif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gif" ContentType="image/gif"/>
  <Override PartName="/ppt/media/image2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DEE-D101-44E6-98CD-5FA586B15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37E6-1387-4EA6-B715-5ED45F0B0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F23-6A8F-4B2A-8CB6-5B07C4C9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E16-A712-408D-B058-71A96FDD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B0D-992B-4716-94AE-7CD7E573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0D0-9BA4-40D5-B0C6-CCCB1D18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2C3-466A-4526-A2F7-AFA2BC3C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B66-7E3B-4F68-B57C-0E101C3B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934-CF39-469B-BF22-0693F02E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074-A85C-4E93-BC80-EC82603D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DE4-68B3-4579-AD89-105F66D4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532-3BAD-489D-9520-F5EBA3D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77A-25C2-4B5B-9E17-AF0F968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D43-A2D7-436F-A9B8-B996C831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‹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ten-ten.org/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533520" y="6019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y Keith Schlottman, KR7RK, Treasurer of 10-10 International Net,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esented at the 2008 ARRL Southwestern Division Convention, Mesa, A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AntennaDoctor.jpg"/>
          <p:cNvPicPr/>
          <p:nvPr/>
        </p:nvPicPr>
        <p:blipFill>
          <a:blip r:embed="rId1"/>
          <a:stretch/>
        </p:blipFill>
        <p:spPr>
          <a:xfrm>
            <a:off x="0" y="1127160"/>
            <a:ext cx="9144000" cy="4603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 rot="21064800">
            <a:off x="-482400" y="31284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ras Demi ITC"/>
              </a:rPr>
              <a:t>TEN METERS I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Eras Demi ITC"/>
              </a:rPr>
              <a:t>ALIVE &amp; WELL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think of RTTY a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 rot="16200000">
            <a:off x="-2857320" y="2857320"/>
            <a:ext cx="68580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a Few Old M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model19.jpg"/>
          <p:cNvPicPr/>
          <p:nvPr/>
        </p:nvPicPr>
        <p:blipFill>
          <a:blip r:embed="rId1"/>
          <a:stretch/>
        </p:blipFill>
        <p:spPr>
          <a:xfrm>
            <a:off x="3505320" y="1219320"/>
            <a:ext cx="2340000" cy="2627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581280" y="38862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DigitalMMTTY1.gif"/>
          <p:cNvPicPr/>
          <p:nvPr/>
        </p:nvPicPr>
        <p:blipFill>
          <a:blip r:embed="rId2"/>
          <a:stretch/>
        </p:blipFill>
        <p:spPr>
          <a:xfrm>
            <a:off x="1295280" y="4629240"/>
            <a:ext cx="7620120" cy="2228760"/>
          </a:xfrm>
          <a:prstGeom prst="rect">
            <a:avLst/>
          </a:prstGeom>
          <a:ln w="0">
            <a:noFill/>
          </a:ln>
        </p:spPr>
      </p:pic>
      <p:pic>
        <p:nvPicPr>
          <p:cNvPr id="88" name="rtty_test-2.wav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1340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 rot="16200000">
            <a:off x="-2857320" y="2857320"/>
            <a:ext cx="68580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n’t Forget C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23880" y="380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resurgence of interest in C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523880" y="1523880"/>
            <a:ext cx="7239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se Code is getting easier to generate and also to cop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ic keyers becoming more advan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code rea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board CW gen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ory key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ewed interest in straight key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MFJ-464.jpg"/>
          <p:cNvPicPr/>
          <p:nvPr/>
        </p:nvPicPr>
        <p:blipFill>
          <a:blip r:embed="rId1"/>
          <a:stretch/>
        </p:blipFill>
        <p:spPr>
          <a:xfrm rot="595200">
            <a:off x="5714640" y="2819160"/>
            <a:ext cx="3048120" cy="1896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by4.jpg"/>
          <p:cNvPicPr/>
          <p:nvPr/>
        </p:nvPicPr>
        <p:blipFill>
          <a:blip r:embed="rId2"/>
          <a:stretch/>
        </p:blipFill>
        <p:spPr>
          <a:xfrm>
            <a:off x="4495680" y="4876920"/>
            <a:ext cx="2152800" cy="167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skccsm.jpg"/>
          <p:cNvPicPr/>
          <p:nvPr/>
        </p:nvPicPr>
        <p:blipFill>
          <a:blip r:embed="rId3"/>
          <a:stretch/>
        </p:blipFill>
        <p:spPr>
          <a:xfrm rot="20538600">
            <a:off x="1473120" y="4110120"/>
            <a:ext cx="2216160" cy="1514520"/>
          </a:xfrm>
          <a:prstGeom prst="rect">
            <a:avLst/>
          </a:prstGeom>
          <a:ln w="0">
            <a:noFill/>
          </a:ln>
        </p:spPr>
      </p:pic>
      <p:pic>
        <p:nvPicPr>
          <p:cNvPr id="95" name="CQ10_001.wav" descr=""/>
          <p:cNvPicPr/>
          <p:nvPr/>
        </p:nvPicPr>
        <p:blipFill>
          <a:blip r:embed="rId4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2244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10 meter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U.S. Technician Class licensees are now authorized on 28.000 to 28.500 MHz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popular frequencies to tr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070…………..C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087…………..RT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120…………..PSK3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345…………..SS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385…………..QRP SS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420…………..SS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9.600…………..F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n’t forget to listen for Beacons 28.190 – 28.225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-10 International 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- Ten recently passed our 75,0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mbe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ontinue to welcome new members.  250+ new members already this mont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-Ten QSO Parties are very popular 10 meter ev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increased Ten-Ten presence at hamfests and conven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www.ten-te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1010ant.gif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1010ant.gif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 Meter Events for 200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une 7-8:  Open Season PSK31 Con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gust 2-3:  10-10 Summer Phone Party (SS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ctober 10:  1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nual 10-10 Day Spr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ctober 25-26:  10-10 Fall CW &amp; Digital Par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ember 22-23:  10-10 W6OI Special Ev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ember 13-14:  ARRL 10 Meter Con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:  10-10 Work the Volunteers Con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:  10-10 Anniversary Ev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us many more multi-band events – there is a contest or special event every weekend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676520" y="1066680"/>
            <a:ext cx="525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l CQ – don’t just spin the dial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te in local n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cson: 28.420  Tuesdays 8 p.m. lo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enix: 28.445  Sundays 6 p.m. lo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in 10-10 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en-ten.or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in a local 10-10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e in a con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 a new m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brace new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y some new equi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grade or repair your anten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219320" y="457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ill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Documents and Settings\KEITH SCHLOTTMAN\Temporary Internet Files\Content.IE5\7WPTPAOE\MCj04362220000[1].png"/>
          <p:cNvPicPr/>
          <p:nvPr/>
        </p:nvPicPr>
        <p:blipFill>
          <a:blip r:embed="rId3"/>
          <a:stretch/>
        </p:blipFill>
        <p:spPr>
          <a:xfrm>
            <a:off x="5867280" y="3809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943600" y="5638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"/>
              </a:rPr>
              <a:t>I Want You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"/>
              </a:rPr>
              <a:t>ON 10 Meter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 rot="21410400">
            <a:off x="803160" y="212400"/>
            <a:ext cx="777240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Eras Demi ITC"/>
              </a:rPr>
              <a:t>A PERFECT 1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DWTS_Judges_10.jpg"/>
          <p:cNvPicPr/>
          <p:nvPr/>
        </p:nvPicPr>
        <p:blipFill>
          <a:blip r:embed="rId1"/>
          <a:stretch/>
        </p:blipFill>
        <p:spPr>
          <a:xfrm>
            <a:off x="1752480" y="1828800"/>
            <a:ext cx="555012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523880" y="52578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 Meters is ALIVE AND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bottom of the sunspot cycl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Paul_revere_ride copy.gif"/>
          <p:cNvPicPr/>
          <p:nvPr/>
        </p:nvPicPr>
        <p:blipFill>
          <a:blip r:embed="rId1"/>
          <a:stretch/>
        </p:blipFill>
        <p:spPr>
          <a:xfrm>
            <a:off x="0" y="0"/>
            <a:ext cx="434664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gong2.jpg"/>
          <p:cNvPicPr/>
          <p:nvPr/>
        </p:nvPicPr>
        <p:blipFill>
          <a:blip r:embed="rId2"/>
          <a:stretch/>
        </p:blipFill>
        <p:spPr>
          <a:xfrm>
            <a:off x="4343400" y="20574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113" name="72-CarlySimon_Anticipation.wav" descr=""/>
          <p:cNvPicPr/>
          <p:nvPr/>
        </p:nvPicPr>
        <p:blipFill>
          <a:blip r:embed="rId3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6249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 rumors of my demise have been greatly exaggerat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28 megacyc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araphrasing Mark Twai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10Dead.gif"/>
          <p:cNvPicPr/>
          <p:nvPr/>
        </p:nvPicPr>
        <p:blipFill>
          <a:blip r:embed="rId1"/>
          <a:stretch/>
        </p:blipFill>
        <p:spPr>
          <a:xfrm>
            <a:off x="281952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sin_mov1.gif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1181160"/>
          </a:xfrm>
          <a:prstGeom prst="rect">
            <a:avLst/>
          </a:prstGeom>
          <a:ln w="0">
            <a:noFill/>
          </a:ln>
        </p:spPr>
      </p:pic>
      <p:pic>
        <p:nvPicPr>
          <p:cNvPr id="54" name="MSSN00578A0000[1].wav" descr=""/>
          <p:cNvPicPr/>
          <p:nvPr/>
        </p:nvPicPr>
        <p:blipFill>
          <a:blip r:embed="rId3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5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 rot="16200000">
            <a:off x="-2933280" y="2933640"/>
            <a:ext cx="6858000" cy="9907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ontest Resul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90720" y="304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thing warms up the ionosphere like a good conte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295280" y="175248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0-10 Summer 2008 Phone QSO Party –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and Wide Open!!!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0-10 Winter 2008 Phone QSO Par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top 10 stations logg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,24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0-10 Summer 2007 Phone QSO Par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top 10 stations logg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,08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7 CQ WPX SSB Cont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Single Band 10 meter winner ha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,3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7 CQ WPX CW Cont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Single Band 10 meter winner ha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,27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7 ARRL 10 Meter Conte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,47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gs received per ARRL 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7 ARRL Int’l DX SSB Cont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Single Band 10m winner ha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7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7 ARRL Int’l DX CW Cont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,41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tal 10m contacts were m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BonnieRaitt_LetsGiveThemSomethingToTalkAbout.wav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99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, DX is Possibl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09680" y="16765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of propagation tools can be helpf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X Clus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p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K Repor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yline M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pagation prediction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gazine foreca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ac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80880" y="48769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Know the band – be prepared for seasonal changes in propag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295280" y="21337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uster 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10mSpots2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ch the DX Cluster for band ope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 rot="16200000">
            <a:off x="-3009600" y="3009960"/>
            <a:ext cx="6858000" cy="8380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xpe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P6DX………Feb 2008……………….8,791 QS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5"/>
          <p:cNvSpPr/>
          <p:nvPr/>
        </p:nvSpPr>
        <p:spPr>
          <a:xfrm>
            <a:off x="1066680" y="213372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6"/>
          <p:cNvSpPr/>
          <p:nvPr/>
        </p:nvSpPr>
        <p:spPr>
          <a:xfrm>
            <a:off x="990720" y="571500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7"/>
          <p:cNvSpPr/>
          <p:nvPr/>
        </p:nvSpPr>
        <p:spPr>
          <a:xfrm>
            <a:off x="990720" y="327672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8"/>
          <p:cNvSpPr/>
          <p:nvPr/>
        </p:nvSpPr>
        <p:spPr>
          <a:xfrm>
            <a:off x="990720" y="457200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1430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nt 10 meter activity?  Just go on a DXpeditio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066680" y="243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X5C………..Mar 2008………………3,974 QS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143000" y="3581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X0R……….Mar 2008………………1,646 QS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1066680" y="48769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B7C………..Sep 2007……………….7,598 QS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 rot="16200000">
            <a:off x="-2857680" y="2857320"/>
            <a:ext cx="68580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Modes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kd5de12.jpg"/>
          <p:cNvPicPr/>
          <p:nvPr/>
        </p:nvPicPr>
        <p:blipFill>
          <a:blip r:embed="rId1"/>
          <a:stretch/>
        </p:blipFill>
        <p:spPr>
          <a:xfrm>
            <a:off x="114300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371600" y="152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K31 is a great mode for weak signa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sk31Bpsk.wav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521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PSKReporter20080713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call CQ and nobody is listening, do you propogate R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NET – 28.131 MHz on PSK31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Propne.jpg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7:19:06Z</dcterms:created>
  <dc:creator>Keith Schlottman</dc:creator>
  <dc:description/>
  <dc:language>en-US</dc:language>
  <cp:lastModifiedBy>Keith Schlottman</cp:lastModifiedBy>
  <dcterms:modified xsi:type="dcterms:W3CDTF">2008-09-11T21:39:40Z</dcterms:modified>
  <cp:revision>78</cp:revision>
  <dc:subject/>
  <dc:title>Slide 1</dc:title>
</cp:coreProperties>
</file>