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392-23ED-4F08-864D-6EAE4B25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116-E25F-442D-8934-6946F3F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E24-29D1-4042-802E-753B1D97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064-7CAD-4247-A3AE-E137DAE5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8050-79D0-43DF-9F8C-3832A0C5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4966-9A21-4F33-988F-38F60F88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B363-AE8D-4238-8C30-181E9A3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8C12-A64E-4A56-A95B-3062706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A43-492C-4883-AA79-F3C4573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8C3-2949-491D-A06B-3A9E813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5370-6606-4272-80C5-238F165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CEB-1FAF-4C55-9312-2AC68BF5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ACA-3DD0-481A-AAFC-693D3DC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80F-A290-489D-85E9-D6440FC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78AF-08CB-46AE-9F2C-3ACFD178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4CB-351D-4AF1-B012-7DAF02FE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1195-8E13-4BDD-B66F-57F79CE6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2A0-61E0-4C21-82F4-987BE129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5F5-435B-418C-9EA5-5BA4638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CD9-3624-4AAC-A0F8-B1E4677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A30-6FD4-4953-AB2A-7394B0B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8F4-B632-4B96-AF6B-D7169D0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466-65F4-4302-B45F-D01A03F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3A5-ABF6-423B-8EE7-9CAD091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0C1-B6E2-45C3-8C39-020AF6F5A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F52-97AA-4A7E-BC34-B9BF0BCC6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en-Ten International Net, Inc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005 Convention Forum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HAPPENS TO YOUR DUES MONE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95288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by the Treasurer, Keith Schlottman KR7RK #633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a, Arizona June 11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sh Fl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7720" y="1905120"/>
            <a:ext cx="7585200" cy="4678200"/>
            <a:chOff x="837720" y="1905120"/>
            <a:chExt cx="7585200" cy="4678200"/>
          </a:xfrm>
        </p:grpSpPr>
        <p:cxnSp>
          <p:nvCxnSpPr>
            <p:cNvPr id="103" name="_s3091"/>
            <p:cNvCxnSpPr>
              <a:stCxn id="104" idx="1"/>
            </p:cNvCxnSpPr>
            <p:nvPr/>
          </p:nvCxnSpPr>
          <p:spPr>
            <a:xfrm rot="10800000">
              <a:off x="3350520" y="5563080"/>
              <a:ext cx="1755360" cy="91440"/>
            </a:xfrm>
            <a:prstGeom prst="bentConnector3">
              <a:avLst>
                <a:gd name="adj1" fmla="val 6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3089"/>
            <p:cNvCxnSpPr>
              <a:stCxn id="106" idx="1"/>
              <a:endCxn id="107" idx="2"/>
            </p:cNvCxnSpPr>
            <p:nvPr/>
          </p:nvCxnSpPr>
          <p:spPr>
            <a:xfrm flipH="1" rot="10800000">
              <a:off x="1980000" y="4014720"/>
              <a:ext cx="5242320" cy="1406880"/>
            </a:xfrm>
            <a:prstGeom prst="bentConnector4">
              <a:avLst>
                <a:gd name="adj1" fmla="val -2177"/>
                <a:gd name="adj2" fmla="val 829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3087"/>
            <p:cNvCxnSpPr/>
            <p:nvPr/>
          </p:nvCxnSpPr>
          <p:spPr>
            <a:xfrm rot="10800000">
              <a:off x="5866920" y="2750040"/>
              <a:ext cx="640080" cy="252360"/>
            </a:xfrm>
            <a:prstGeom prst="bentConnector3">
              <a:avLst>
                <a:gd name="adj1" fmla="val 17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3083"/>
            <p:cNvCxnSpPr>
              <a:stCxn id="110" idx="1"/>
            </p:cNvCxnSpPr>
            <p:nvPr/>
          </p:nvCxnSpPr>
          <p:spPr>
            <a:xfrm rot="10800000">
              <a:off x="837360" y="2917080"/>
              <a:ext cx="2592000" cy="85320"/>
            </a:xfrm>
            <a:prstGeom prst="bentConnector3">
              <a:avLst>
                <a:gd name="adj1" fmla="val 44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3078"/>
            <p:cNvSpPr/>
            <p:nvPr/>
          </p:nvSpPr>
          <p:spPr>
            <a:xfrm>
              <a:off x="838080" y="1905120"/>
              <a:ext cx="2402280" cy="1858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Member Mak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ues Paymen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080"/>
            <p:cNvSpPr/>
            <p:nvPr/>
          </p:nvSpPr>
          <p:spPr>
            <a:xfrm>
              <a:off x="3429360" y="2073240"/>
              <a:ext cx="2404800" cy="1858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unds Deposite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o Checkin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Accoun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086"/>
            <p:cNvSpPr/>
            <p:nvPr/>
          </p:nvSpPr>
          <p:spPr>
            <a:xfrm>
              <a:off x="6017760" y="2156760"/>
              <a:ext cx="2405160" cy="1858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Payments fo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uture Year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nvested in CD’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088"/>
            <p:cNvSpPr/>
            <p:nvPr/>
          </p:nvSpPr>
          <p:spPr>
            <a:xfrm>
              <a:off x="1980360" y="4492440"/>
              <a:ext cx="2405160" cy="1858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unds Expecte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o Be Neede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3 Months – 1 Yea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Held in Mone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Market Accoun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090"/>
            <p:cNvSpPr/>
            <p:nvPr/>
          </p:nvSpPr>
          <p:spPr>
            <a:xfrm>
              <a:off x="5105880" y="4725000"/>
              <a:ext cx="2404800" cy="1858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unds Used to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Pay for Memb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Benefit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029200" y="457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$$$$$$$$$$$$$$$$$$$$$$$$$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952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it’s Sp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Volunteer Officers and 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ed Data Management and Treasur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Costs Relate to Production and Distribution of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743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scal Year Ended 3/31/0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76520" y="1244520"/>
          <a:ext cx="6248160" cy="544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44520"/>
                    <a:ext cx="624816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32:41Z</dcterms:created>
  <dc:creator>Keith Schlottman</dc:creator>
  <dc:description/>
  <dc:language>en-US</dc:language>
  <cp:lastModifiedBy>Keith Schlottman</cp:lastModifiedBy>
  <dcterms:modified xsi:type="dcterms:W3CDTF">2005-06-11T15:28:38Z</dcterms:modified>
  <cp:revision>6</cp:revision>
  <dc:subject/>
  <dc:title>Ten-Ten International Net, Inc. 2005 Convention Forum</dc:title>
</cp:coreProperties>
</file>