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gif" ContentType="image/gi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gif" ContentType="image/gif"/>
  <Override PartName="/ppt/media/image2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1D0-7E87-46A8-BED0-804B64CD6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AFB0-83CD-4CBF-BC59-1E5B3A524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025-8AB4-4351-B482-939CC3B9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D09-8404-4088-A32B-1AC29355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08A-BC60-4129-8583-FEA499E8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333-EC18-4A13-A301-879C5DCC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8DB-5145-4BE8-9928-3558C5FE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363-0255-4755-9BBA-85211A89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2CB-0AAB-47CF-8D99-982EBB7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D32-4318-4021-9BF7-9719C6F9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C0A-CD8F-4CD0-AF65-E59E929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427-25E2-4F73-9DD9-8943079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8B0-B1AA-40F6-8819-49C1EEAE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991-7F2D-41E0-9AFA-31AF0FB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‹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ten-ten.org/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533520" y="6019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y Keith Schlottman, KR7RK, Treasurer of 10-10 International Net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esented to the Radio Society of Tucson January 13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tennaDoctor.jp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603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 rot="21064800">
            <a:off x="-482400" y="31284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ras Demi ITC"/>
              </a:rPr>
              <a:t>TEN METERS 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Eras Demi ITC"/>
              </a:rPr>
              <a:t>ALIVE &amp; WELL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think of RTTY a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 rot="16200000">
            <a:off x="-2857320" y="2857320"/>
            <a:ext cx="68580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Few Old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model19.jpg"/>
          <p:cNvPicPr/>
          <p:nvPr/>
        </p:nvPicPr>
        <p:blipFill>
          <a:blip r:embed="rId1"/>
          <a:stretch/>
        </p:blipFill>
        <p:spPr>
          <a:xfrm>
            <a:off x="3505320" y="1219320"/>
            <a:ext cx="2340000" cy="2627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3581280" y="38862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DigitalMMTTY1.gif"/>
          <p:cNvPicPr/>
          <p:nvPr/>
        </p:nvPicPr>
        <p:blipFill>
          <a:blip r:embed="rId2"/>
          <a:stretch/>
        </p:blipFill>
        <p:spPr>
          <a:xfrm>
            <a:off x="1295280" y="4629240"/>
            <a:ext cx="7620120" cy="2228760"/>
          </a:xfrm>
          <a:prstGeom prst="rect">
            <a:avLst/>
          </a:prstGeom>
          <a:ln w="0">
            <a:noFill/>
          </a:ln>
        </p:spPr>
      </p:pic>
      <p:pic>
        <p:nvPicPr>
          <p:cNvPr id="89" name="rtty_test-2.wav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1340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1"/>
          <p:cNvSpPr/>
          <p:nvPr/>
        </p:nvSpPr>
        <p:spPr>
          <a:xfrm rot="16200000">
            <a:off x="-2857320" y="2857320"/>
            <a:ext cx="68580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’t Forget C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38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resurgence of interest in C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523880" y="1523880"/>
            <a:ext cx="7239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se Code is getting easier to generate and also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lectronic keyers becoming more 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puter code r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eyboard CW gen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mory ke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newed interest in straight ke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MFJ-464.jpg"/>
          <p:cNvPicPr/>
          <p:nvPr/>
        </p:nvPicPr>
        <p:blipFill>
          <a:blip r:embed="rId1"/>
          <a:stretch/>
        </p:blipFill>
        <p:spPr>
          <a:xfrm rot="595200">
            <a:off x="5714640" y="2819160"/>
            <a:ext cx="3048120" cy="189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y4.jpg"/>
          <p:cNvPicPr/>
          <p:nvPr/>
        </p:nvPicPr>
        <p:blipFill>
          <a:blip r:embed="rId2"/>
          <a:stretch/>
        </p:blipFill>
        <p:spPr>
          <a:xfrm>
            <a:off x="4495680" y="4876920"/>
            <a:ext cx="2152800" cy="167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skccsm.jpg"/>
          <p:cNvPicPr/>
          <p:nvPr/>
        </p:nvPicPr>
        <p:blipFill>
          <a:blip r:embed="rId3"/>
          <a:stretch/>
        </p:blipFill>
        <p:spPr>
          <a:xfrm rot="20538600">
            <a:off x="1473120" y="4110120"/>
            <a:ext cx="2216160" cy="1514520"/>
          </a:xfrm>
          <a:prstGeom prst="rect">
            <a:avLst/>
          </a:prstGeom>
          <a:ln w="0">
            <a:noFill/>
          </a:ln>
        </p:spPr>
      </p:pic>
      <p:pic>
        <p:nvPicPr>
          <p:cNvPr id="96" name="CQ10_001.wav" descr=""/>
          <p:cNvPicPr/>
          <p:nvPr/>
        </p:nvPicPr>
        <p:blipFill>
          <a:blip r:embed="rId4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244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10 meter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U.S. Technician Class licensees are now authorized on 28.000 to 28.500 MH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popular frequencies to t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070…………..C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087…………..RT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120…………..PSK3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345…………..SS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385…………..QRP SS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420…………..SS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9.600…………..F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n’t forget to listen for Beacons 28.190 – 28.225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-10 International 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- Ten recently passed our 75,0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mb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ontinue to welcome new members.  In August we welcomed ~ 250 new memb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-Ten QSO Parties are very popular 10 meter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increased Ten-Ten presence at hamfests and conv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www.ten-te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1010ant.gif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010ant.gif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 Meter Events for 20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ily: Chapter nets, Official 10-10 Nets at 1800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bruary 7-8:  10-10 Winter Phone Party (SS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ch 21:  10-10 Mobile QSO Pa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-3:  10-10 Spring CW &amp; Digital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ne 6-7:  Open Season Ten Meter PSK31 Con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-2:  10-10 Summer Phone QSO Party (SS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tober 10: 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nual 10-10 Day Spr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tober 24-25:  10-10 Fall CW &amp; Digital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vember 28-29:  W6OI Special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mber 12-13:  ARRL 10 Meter Con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going:  10-10 Meet the Volunteers Con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going:  10-10 Anniversary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s many more multi-band events – there is a contest or special event every weeke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676520" y="1066680"/>
            <a:ext cx="525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 CQ – don’t just spin the di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te in local 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ucson: 28.420  Tuesdays 8 p.m.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hoenix: 28.445  Sundays 6 p.m.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in 10-10 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en-ten.or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in a local 10-10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e in a co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 a new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brace new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some new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grade or repair your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219320" y="4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ill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KEITH SCHLOTTMAN\Temporary Internet Files\Content.IE5\7WPTPAOE\MCj04362220000[1].png"/>
          <p:cNvPicPr/>
          <p:nvPr/>
        </p:nvPicPr>
        <p:blipFill>
          <a:blip r:embed="rId3"/>
          <a:stretch/>
        </p:blipFill>
        <p:spPr>
          <a:xfrm>
            <a:off x="5867280" y="3809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94360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"/>
              </a:rPr>
              <a:t>I Want You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"/>
              </a:rPr>
              <a:t>ON 10 Met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 rot="21410400">
            <a:off x="803160" y="212400"/>
            <a:ext cx="777240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Eras Demi ITC"/>
              </a:rPr>
              <a:t>A PERFECT 1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DWTS_Judges_10.jpg"/>
          <p:cNvPicPr/>
          <p:nvPr/>
        </p:nvPicPr>
        <p:blipFill>
          <a:blip r:embed="rId1"/>
          <a:stretch/>
        </p:blipFill>
        <p:spPr>
          <a:xfrm>
            <a:off x="1752480" y="1828800"/>
            <a:ext cx="555012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523880" y="52578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Meters is ALIVE AND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bottom of the sunspot cyc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Paul_revere_ride copy.gif"/>
          <p:cNvPicPr/>
          <p:nvPr/>
        </p:nvPicPr>
        <p:blipFill>
          <a:blip r:embed="rId1"/>
          <a:stretch/>
        </p:blipFill>
        <p:spPr>
          <a:xfrm>
            <a:off x="0" y="0"/>
            <a:ext cx="4346640" cy="4419720"/>
          </a:xfrm>
          <a:prstGeom prst="rect">
            <a:avLst/>
          </a:prstGeom>
          <a:ln w="0">
            <a:noFill/>
          </a:ln>
        </p:spPr>
      </p:pic>
      <p:pic>
        <p:nvPicPr>
          <p:cNvPr id="113" name="72-CarlySimon_Anticipation.wav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10_anim2.gif"/>
          <p:cNvPicPr/>
          <p:nvPr/>
        </p:nvPicPr>
        <p:blipFill>
          <a:blip r:embed="rId3"/>
          <a:stretch/>
        </p:blipFill>
        <p:spPr>
          <a:xfrm>
            <a:off x="5715000" y="1066680"/>
            <a:ext cx="2438280" cy="5623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5334120" y="2286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nspot 1010 wa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rst Sunspot of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249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rumors of my demise have been greatly exaggera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28 megacyc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araphrasing Mark Twai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10Dead.gif"/>
          <p:cNvPicPr/>
          <p:nvPr/>
        </p:nvPicPr>
        <p:blipFill>
          <a:blip r:embed="rId1"/>
          <a:stretch/>
        </p:blipFill>
        <p:spPr>
          <a:xfrm>
            <a:off x="281952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in_mov1.gif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MSSN00578A0000[1].wav" descr=""/>
          <p:cNvPicPr/>
          <p:nvPr/>
        </p:nvPicPr>
        <p:blipFill>
          <a:blip r:embed="rId3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5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 rot="16200000">
            <a:off x="-2933280" y="2933640"/>
            <a:ext cx="6858000" cy="990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ntest Resul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90720" y="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hing warms up the ionosphere like a good conte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95280" y="17524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-10 Summer 2008 Phone QSO Party –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and Wide Open!!!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Winner logged 696 QSO’s, top 10 stations logged 4,148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-10 Winter 2008 Phone QSO Par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op 10 stations logg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,24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-10 Summer 2007 Phone QSO Par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op 10 stations logg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,08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CQ WPX SSB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Single Band 10 meter winner ha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,3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CQ WPX CW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Single Band 10 meter winner ha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,27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ARRL 10 Meter Conte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,47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gs received per ARRL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ARRL Int’l DX SSB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Single Band 10m winner ha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7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ARRL Int’l DX CW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,41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tal 10m contacts wer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onnieRaitt_LetsGiveThemSomethingToTalkAbout.wav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99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, DX is Possib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09680" y="16765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of propagation tools can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X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p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SK Re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ylin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pagation prediction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gazine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a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80880" y="48769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Know the band – be prepared for seasonal changes in propag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295280" y="2133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uster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10mSpots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ch the DX Cluster for band op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16200000">
            <a:off x="-3009600" y="3009960"/>
            <a:ext cx="6858000" cy="8380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xpe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6DX………Feb 2008……………….8,791 QS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066680" y="21337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990720" y="57150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990720" y="32767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990720" y="45720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1430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nt 10 meter activity?  Just go on a DXpedi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066680" y="243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X5C………..Mar 2008………………3,974 QS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3581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X0R……….Mar 2008………………1,646 QS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066680" y="4876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B7C………..Sep 2007……………….7,598 QS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1066680" y="59436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K9DWX....Oct 2008……………….4,642 QS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 rot="16200000">
            <a:off x="-2857680" y="2857320"/>
            <a:ext cx="68580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Modes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kd5de12.jpg"/>
          <p:cNvPicPr/>
          <p:nvPr/>
        </p:nvPicPr>
        <p:blipFill>
          <a:blip r:embed="rId1"/>
          <a:stretch/>
        </p:blipFill>
        <p:spPr>
          <a:xfrm>
            <a:off x="11430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371600" y="152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K31 is a great mode for weak sign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k31Bpsk.wav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521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SKReporter20080713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call CQ and nobody is listening, do you propogate R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NET – 28.131 MHz on PSK3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ropne.jpg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7:19:06Z</dcterms:created>
  <dc:creator>Keith Schlottman</dc:creator>
  <dc:description/>
  <dc:language>en-US</dc:language>
  <cp:lastModifiedBy>Keith Schlottman</cp:lastModifiedBy>
  <dcterms:modified xsi:type="dcterms:W3CDTF">2009-01-13T23:50:53Z</dcterms:modified>
  <cp:revision>84</cp:revision>
  <dc:subject/>
  <dc:title>Slide 1</dc:title>
</cp:coreProperties>
</file>